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highchime.wav" ContentType="audio/x-wav"/>
  <Override PartName="/ppt/media/image19.wmf" ContentType="image/x-wmf"/>
  <Override PartName="/ppt/media/image16.wmf" ContentType="image/x-wmf"/>
  <Override PartName="/ppt/media/image15.wmf" ContentType="image/x-wmf"/>
  <Override PartName="/ppt/media/jetflyby2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bserie06.wav" ContentType="audio/x-wav"/>
  <Override PartName="/ppt/media/image6.wmf" ContentType="image/x-wmf"/>
  <Override PartName="/ppt/media/LASER.WAV" ContentType="audio/x-wav"/>
  <Override PartName="/ppt/media/image14.wmf" ContentType="image/x-wmf"/>
  <Override PartName="/ppt/media/zapbig0g.wav" ContentType="audio/x-wav"/>
  <Override PartName="/ppt/media/image4.png" ContentType="image/png"/>
  <Override PartName="/ppt/media/image12.wmf" ContentType="image/x-wmf"/>
  <Override PartName="/ppt/media/CHIMES.WAV" ContentType="audio/x-wav"/>
  <Override PartName="/ppt/media/jetflyby.wav" ContentType="audio/x-wav"/>
  <Override PartName="/ppt/media/boinng04.wav" ContentType="audio/x-wav"/>
  <Override PartName="/ppt/media/image18.wmf" ContentType="image/x-wmf"/>
  <Override PartName="/ppt/media/hzipup01.wav" ContentType="audio/x-wav"/>
  <Override PartName="/ppt/media/policesiren.wav" ContentType="audio/x-wav"/>
  <Override PartName="/ppt/media/planeflyby.wav" ContentType="audio/x-wav"/>
  <Override PartName="/ppt/media/TYPE.WAV" ContentType="audio/x-wav"/>
  <Override PartName="/ppt/media/image5.wmf" ContentType="image/x-wmf"/>
  <Override PartName="/ppt/media/zipup202.wav" ContentType="audio/x-wav"/>
  <Override PartName="/ppt/media/image10.wmf" ContentType="image/x-wmf"/>
  <Override PartName="/ppt/media/zipdn102.wav" ContentType="audio/x-wav"/>
  <Override PartName="/ppt/media/Baseball%20critical%20stop.wav" ContentType="audio/x-wav"/>
  <Override PartName="/ppt/media/cool%20man.wav" ContentType="audio/x-wav"/>
  <Override PartName="/ppt/media/image3.wmf" ContentType="image/x-wmf"/>
  <Override PartName="/ppt/media/RICOCHET.WAV" ContentType="audio/x-wav"/>
  <Override PartName="/ppt/media/image2.wmf" ContentType="image/x-wmf"/>
  <Override PartName="/ppt/media/WHOOSH.WAV" ContentType="audio/x-wav"/>
  <Override PartName="/ppt/media/image1.png" ContentType="image/png"/>
  <Override PartName="/ppt/media/lzipup01.wav" ContentType="audio/x-wav"/>
  <Override PartName="/ppt/media/image17.wmf" ContentType="image/x-wmf"/>
  <Override PartName="/ppt/media/DRIVEBY.WAV" ContentType="audio/x-wav"/>
  <Override PartName="/ppt/media/caralarmoff.wav" ContentType="audio/x-wav"/>
  <Override PartName="/ppt/media/image7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3FF-4B6B-4A48-B1D5-AEED6C24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666-5150-4CBF-9DD7-01DA3C1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3DC-3F98-4C4E-B56F-FE4816E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970-25F5-44A9-98D5-5FDB55D1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EBA-E961-4C0B-BFD8-236BC88F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1C2-3F2C-4606-B40D-D2402FBB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5D8-7F6B-4D9F-997A-0985BBF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460-D987-415B-8233-1775485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CC6-0277-44F2-A547-88B87616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7C9-36F0-4D98-BD01-5C618EC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CF9-E29B-42DD-8B23-A86602F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457-586A-4AED-851F-14B6BFA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AA8D-9915-4D9C-B2ED-700A2F97E3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jetflyby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bserie06.wav"/><Relationship Id="rId8" Type="http://schemas.openxmlformats.org/officeDocument/2006/relationships/audio" Target="../media/Baseball%20critical%20stop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.wav"/><Relationship Id="rId11" Type="http://schemas.openxmlformats.org/officeDocument/2006/relationships/audio" Target="../media/jetflyby.wav"/><Relationship Id="rId12" Type="http://schemas.openxmlformats.org/officeDocument/2006/relationships/audio" Target="../media/jetflyby.wav"/><Relationship Id="rId13" Type="http://schemas.openxmlformats.org/officeDocument/2006/relationships/audio" Target="../media/jetflyby.wav"/><Relationship Id="rId14" Type="http://schemas.openxmlformats.org/officeDocument/2006/relationships/audio" Target="../media/jetflyby.wav"/><Relationship Id="rId15" Type="http://schemas.openxmlformats.org/officeDocument/2006/relationships/audio" Target="../media/jetflyby.wav"/><Relationship Id="rId16" Type="http://schemas.openxmlformats.org/officeDocument/2006/relationships/audio" Target="../media/jetflyby.wav"/><Relationship Id="rId17" Type="http://schemas.openxmlformats.org/officeDocument/2006/relationships/audio" Target="../media/jetflyby.wav"/><Relationship Id="rId18" Type="http://schemas.openxmlformats.org/officeDocument/2006/relationships/audio" Target="../media/jetflyby.wav"/><Relationship Id="rId19" Type="http://schemas.openxmlformats.org/officeDocument/2006/relationships/audio" Target="../media/jetflyby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planeflyby.wav"/><Relationship Id="rId8" Type="http://schemas.openxmlformats.org/officeDocument/2006/relationships/audio" Target="../media/planeflyby.wav"/><Relationship Id="rId9" Type="http://schemas.openxmlformats.org/officeDocument/2006/relationships/audio" Target="../media/planeflyby.wav"/><Relationship Id="rId10" Type="http://schemas.openxmlformats.org/officeDocument/2006/relationships/audio" Target="../media/planeflyby.wav"/><Relationship Id="rId11" Type="http://schemas.openxmlformats.org/officeDocument/2006/relationships/audio" Target="../media/planeflyby.wav"/><Relationship Id="rId12" Type="http://schemas.openxmlformats.org/officeDocument/2006/relationships/audio" Target="../media/planeflyby.wav"/><Relationship Id="rId13" Type="http://schemas.openxmlformats.org/officeDocument/2006/relationships/audio" Target="../media/planeflyby.wav"/><Relationship Id="rId14" Type="http://schemas.openxmlformats.org/officeDocument/2006/relationships/audio" Target="../media/planeflyby.wav"/><Relationship Id="rId15" Type="http://schemas.openxmlformats.org/officeDocument/2006/relationships/audio" Target="../media/planeflyby.wav"/><Relationship Id="rId16" Type="http://schemas.openxmlformats.org/officeDocument/2006/relationships/audio" Target="../media/planeflyby.wav"/><Relationship Id="rId17" Type="http://schemas.openxmlformats.org/officeDocument/2006/relationships/audio" Target="../media/planeflyby.wav"/><Relationship Id="rId18" Type="http://schemas.openxmlformats.org/officeDocument/2006/relationships/audio" Target="../media/planeflyby.wav"/><Relationship Id="rId19" Type="http://schemas.openxmlformats.org/officeDocument/2006/relationships/audio" Target="../media/planeflyby.wav"/><Relationship Id="rId20" Type="http://schemas.openxmlformats.org/officeDocument/2006/relationships/audio" Target="../media/planeflyby.wav"/><Relationship Id="rId21" Type="http://schemas.openxmlformats.org/officeDocument/2006/relationships/audio" Target="../media/caralarmoff.wav"/><Relationship Id="rId22" Type="http://schemas.openxmlformats.org/officeDocument/2006/relationships/audio" Target="../media/jetflyby2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caralarmoff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ool%20man.wav"/><Relationship Id="rId6" Type="http://schemas.openxmlformats.org/officeDocument/2006/relationships/audio" Target="../media/cool%20man.wav"/><Relationship Id="rId7" Type="http://schemas.openxmlformats.org/officeDocument/2006/relationships/audio" Target="../media/cool%20man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bserie06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bserie06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Baseball%20critical%20stop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.wmf"/><Relationship Id="rId41" Type="http://schemas.openxmlformats.org/officeDocument/2006/relationships/audio" Target="../media/highchime.wav"/><Relationship Id="rId42" Type="http://schemas.openxmlformats.org/officeDocument/2006/relationships/audio" Target="../media/CAMERA.WAV"/><Relationship Id="rId43" Type="http://schemas.openxmlformats.org/officeDocument/2006/relationships/audio" Target="../media/CAMERA.WAV"/><Relationship Id="rId44" Type="http://schemas.openxmlformats.org/officeDocument/2006/relationships/audio" Target="../media/CAMERA.WAV"/><Relationship Id="rId45" Type="http://schemas.openxmlformats.org/officeDocument/2006/relationships/audio" Target="../media/CAMERA.WAV"/><Relationship Id="rId46" Type="http://schemas.openxmlformats.org/officeDocument/2006/relationships/audio" Target="../media/CAMERA.WAV"/><Relationship Id="rId47" Type="http://schemas.openxmlformats.org/officeDocument/2006/relationships/audio" Target="../media/lzipup01.wav"/><Relationship Id="rId48" Type="http://schemas.openxmlformats.org/officeDocument/2006/relationships/audio" Target="../media/lzipup01.wav"/><Relationship Id="rId49" Type="http://schemas.openxmlformats.org/officeDocument/2006/relationships/audio" Target="../media/DRIVEBY.WAV"/><Relationship Id="rId50" Type="http://schemas.openxmlformats.org/officeDocument/2006/relationships/audio" Target="../media/lzipup01.wav"/><Relationship Id="rId51" Type="http://schemas.openxmlformats.org/officeDocument/2006/relationships/audio" Target="../media/lzipup01.wav"/><Relationship Id="rId52" Type="http://schemas.openxmlformats.org/officeDocument/2006/relationships/audio" Target="../media/hzipup01.wav"/><Relationship Id="rId53" Type="http://schemas.openxmlformats.org/officeDocument/2006/relationships/audio" Target="../media/lzipup01.wav"/><Relationship Id="rId54" Type="http://schemas.openxmlformats.org/officeDocument/2006/relationships/audio" Target="../media/hzipup01.wav"/><Relationship Id="rId55" Type="http://schemas.openxmlformats.org/officeDocument/2006/relationships/audio" Target="../media/lzipup01.wav"/><Relationship Id="rId56" Type="http://schemas.openxmlformats.org/officeDocument/2006/relationships/audio" Target="../media/lzipup01.wav"/><Relationship Id="rId57" Type="http://schemas.openxmlformats.org/officeDocument/2006/relationships/audio" Target="../media/policesiren.wav"/><Relationship Id="rId58" Type="http://schemas.openxmlformats.org/officeDocument/2006/relationships/audio" Target="../media/lzipup01.wav"/><Relationship Id="rId59" Type="http://schemas.openxmlformats.org/officeDocument/2006/relationships/audio" Target="../media/lzipup01.wav"/><Relationship Id="rId60" Type="http://schemas.openxmlformats.org/officeDocument/2006/relationships/audio" Target="../media/lzipup01.wav"/><Relationship Id="rId61" Type="http://schemas.openxmlformats.org/officeDocument/2006/relationships/audio" Target="../media/Baseball%20critical%20stop.wav"/><Relationship Id="rId62" Type="http://schemas.openxmlformats.org/officeDocument/2006/relationships/audio" Target="../media/lzipup01.wav"/><Relationship Id="rId63" Type="http://schemas.openxmlformats.org/officeDocument/2006/relationships/audio" Target="../media/lzipup01.wav"/><Relationship Id="rId64" Type="http://schemas.openxmlformats.org/officeDocument/2006/relationships/audio" Target="../media/Baseball%20critical%20stop.wav"/><Relationship Id="rId65" Type="http://schemas.openxmlformats.org/officeDocument/2006/relationships/audio" Target="../media/Baseball%20critical%20stop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zipup202.wav"/><Relationship Id="rId5" Type="http://schemas.openxmlformats.org/officeDocument/2006/relationships/audio" Target="../media/DRIVEBY.WAV"/><Relationship Id="rId6" Type="http://schemas.openxmlformats.org/officeDocument/2006/relationships/audio" Target="../media/zipup2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RICOCHET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caralarmoff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caralarmoff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caralarmoff.wav"/><Relationship Id="rId28" Type="http://schemas.openxmlformats.org/officeDocument/2006/relationships/audio" Target="../media/RICOCHET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zipdn102.wav"/><Relationship Id="rId33" Type="http://schemas.openxmlformats.org/officeDocument/2006/relationships/audio" Target="../media/zipdn102.wav"/><Relationship Id="rId34" Type="http://schemas.openxmlformats.org/officeDocument/2006/relationships/audio" Target="../media/caralarmoff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EXPLODE.WAV"/><Relationship Id="rId15" Type="http://schemas.openxmlformats.org/officeDocument/2006/relationships/audio" Target="../media/boinng04.wav"/><Relationship Id="rId16" Type="http://schemas.openxmlformats.org/officeDocument/2006/relationships/audio" Target="../media/boinng04.wav"/><Relationship Id="rId17" Type="http://schemas.openxmlformats.org/officeDocument/2006/relationships/audio" Target="../media/RICOCHET.WAV"/><Relationship Id="rId18" Type="http://schemas.openxmlformats.org/officeDocument/2006/relationships/audio" Target="../media/EXPLODE.WAV"/><Relationship Id="rId19" Type="http://schemas.openxmlformats.org/officeDocument/2006/relationships/audio" Target="../media/TYP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TYPE.WAV"/><Relationship Id="rId24" Type="http://schemas.openxmlformats.org/officeDocument/2006/relationships/audio" Target="../media/EXPLODE.WAV"/><Relationship Id="rId25" Type="http://schemas.openxmlformats.org/officeDocument/2006/relationships/audio" Target="../media/bserie06.wav"/><Relationship Id="rId26" Type="http://schemas.openxmlformats.org/officeDocument/2006/relationships/audio" Target="../media/RICOCHET.WAV"/><Relationship Id="rId27" Type="http://schemas.openxmlformats.org/officeDocument/2006/relationships/audio" Target="../media/EXPLODE.WAV"/><Relationship Id="rId28" Type="http://schemas.openxmlformats.org/officeDocument/2006/relationships/audio" Target="../media/TYPE.WAV"/><Relationship Id="rId29" Type="http://schemas.openxmlformats.org/officeDocument/2006/relationships/audio" Target="../media/EXPLODE.WAV"/><Relationship Id="rId30" Type="http://schemas.openxmlformats.org/officeDocument/2006/relationships/audio" Target="../media/RICOCHET.WAV"/><Relationship Id="rId31" Type="http://schemas.openxmlformats.org/officeDocument/2006/relationships/audio" Target="../media/EXPLODE.WAV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92280" y="1981080"/>
            <a:ext cx="4191120" cy="1828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0560" y="1752480"/>
            <a:ext cx="3517920" cy="2184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89240" y="433548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ertical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 flipH="1" flipV="1" rot="5400000">
            <a:off x="3607560" y="2818080"/>
            <a:ext cx="711720" cy="2160"/>
          </a:xfrm>
          <a:prstGeom prst="curvedConnector5">
            <a:avLst>
              <a:gd name="adj1" fmla="val 1315"/>
              <a:gd name="adj2" fmla="val -7600000"/>
              <a:gd name="adj3" fmla="val 1315"/>
            </a:avLst>
          </a:prstGeom>
          <a:ln w="572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H="1" flipV="1" rot="5400000">
            <a:off x="5008320" y="2925720"/>
            <a:ext cx="711720" cy="2520"/>
          </a:xfrm>
          <a:prstGeom prst="curvedConnector5">
            <a:avLst>
              <a:gd name="adj1" fmla="val 1315"/>
              <a:gd name="adj2" fmla="val 8850000"/>
              <a:gd name="adj3" fmla="val 1315"/>
            </a:avLst>
          </a:prstGeom>
          <a:ln w="5724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077840" y="4822920"/>
            <a:ext cx="74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gles on the opposite side from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3440" y="5396040"/>
            <a:ext cx="66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y will always have the same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7520" y="26668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11560" y="25718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98640" y="584352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334040" y="5853240"/>
                <a:ext cx="22906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56577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m of the measures of in the figure at the righ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52920" y="2354400"/>
            <a:ext cx="3729240" cy="10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19224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2800" y="18320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19368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659560" y="725400"/>
                <a:ext cx="2982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 flipV="1">
            <a:off x="6400800" y="1571400"/>
            <a:ext cx="1622520" cy="79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254200" y="1481040"/>
            <a:ext cx="117180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9600" y="274788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ince all three angles make a straight line, they are supplementa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35520" y="4191120"/>
                <a:ext cx="133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4832280"/>
            <a:ext cx="89330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Fill in the blank.  The sum of the measures of two angles is 90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 The angles are __________________ ang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0360" y="531036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plementa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600"/>
                            </p:stCondLst>
                            <p:childTnLst>
                              <p:par>
                                <p:cTn id="91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13120" y="2786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95520" y="2816280"/>
                <a:ext cx="1144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495600" y="3157560"/>
                <a:ext cx="11876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334120" y="2604960"/>
                <a:ext cx="2733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481040" y="2395440"/>
            <a:ext cx="5181840" cy="1406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538280" y="1958760"/>
            <a:ext cx="4921200" cy="2438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79800" y="31719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44960" y="2903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578400" y="2401920"/>
                <a:ext cx="1130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630840" y="3165480"/>
                <a:ext cx="1143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939960" y="210816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3.33333E-006 1.90751E-006 L -0.01441 0.39306 E">
                                      <p:cBhvr>
                                        <p:cTn id="109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animMotion origin="layout" path="M -2.22222E-006 9.24855E-007 L 0.00156 0.34266 E">
                                      <p:cBhvr>
                                        <p:cTn id="110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3.61111E-006 -1.15607E-006 L -0.21753 0.34243 E">
                                      <p:cBhvr>
                                        <p:cTn id="111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5680" y="29005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165560" y="3267000"/>
                <a:ext cx="11448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32360" y="2430360"/>
                <a:ext cx="1187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87440" y="2492280"/>
                <a:ext cx="2470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092480" y="1844640"/>
            <a:ext cx="0" cy="3002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38280" y="2379240"/>
            <a:ext cx="5167440" cy="2017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22720" y="2705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62320" y="3308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187800" y="3708360"/>
                <a:ext cx="882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63840" y="3252960"/>
                <a:ext cx="14079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939960" y="210816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4.44444E-006 -2.83237E-006 L -0.22084 0.31376 E">
                                      <p:cBhvr>
                                        <p:cTn id="116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-2.77778E-006 -3.12139E-006 L -0.07152 0.437 E">
                                      <p:cBhvr>
                                        <p:cTn id="1175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3.33333E-006 2.08092E-006 L 0.33628 0.31838 E">
                                      <p:cBhvr>
                                        <p:cTn id="1190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37040" y="3178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736720" y="3722760"/>
                <a:ext cx="24656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HP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683240" y="2475000"/>
                <a:ext cx="21556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KPL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489720" y="1768320"/>
                <a:ext cx="2425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655720" y="1932120"/>
            <a:ext cx="3062520" cy="2681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89000" y="1855800"/>
            <a:ext cx="4251600" cy="2759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7360" y="32288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03760" y="3259080"/>
                <a:ext cx="882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7174080" y="3914640"/>
                <a:ext cx="1099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770120" y="3251160"/>
            <a:ext cx="5037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1160" y="429588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19720" y="424512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720" y="319392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0560" y="20970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3480" y="223524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98520" y="3186000"/>
            <a:ext cx="10188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7200" y="3938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49480" y="26845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00240" y="1778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6560" y="161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35840" y="272268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73720" y="3833640"/>
            <a:ext cx="5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774960" y="2409840"/>
                <a:ext cx="11289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180120" y="3284640"/>
                <a:ext cx="27352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211880" y="2514600"/>
                <a:ext cx="11462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200240" y="207972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animMotion origin="layout" path="M -4.72222E-006 2.89017E-006 L -0.42378 0.4074 E">
                                      <p:cBhvr>
                                        <p:cTn id="132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animMotion origin="layout" path="M 2.22222E-006 -1.21387E-006 L 0.02205 0.22312 E">
                                      <p:cBhvr>
                                        <p:cTn id="132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animMotion origin="layout" path="M 1.94444E-006 -4.10405E-006 L -0.18594 0.19145 E">
                                      <p:cBhvr>
                                        <p:cTn id="1359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" y="3889440"/>
            <a:ext cx="818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6.  Name four pairs of corresponding angle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5840" y="453708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9720" y="453708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 and 1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5840" y="491796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 and 2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09720" y="49179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 and 3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9440" y="2771640"/>
            <a:ext cx="1596960" cy="3351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92480" y="2655720"/>
            <a:ext cx="857520" cy="6098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1960" y="23749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13120" y="2746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00640" y="2882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2880" y="2521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animMotion origin="layout" path="M 0 0 L 0.11111 -0.10566 E">
                                      <p:cBhvr>
                                        <p:cTn id="150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8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75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75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75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75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080" y="3889440"/>
            <a:ext cx="818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Name the alternate interior angle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52480" y="46116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 and 3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76360" y="461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8 a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20462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38840" y="25336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1733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29000" y="23893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75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080" y="3889440"/>
            <a:ext cx="2463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.  Suppos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4389480"/>
            <a:ext cx="4784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all angles congruent t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254320" y="3738600"/>
                <a:ext cx="149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‖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75240" y="4297320"/>
                <a:ext cx="89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1644480" y="5078520"/>
                <a:ext cx="12099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827440" y="5084640"/>
                <a:ext cx="12096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106880" y="5100480"/>
                <a:ext cx="1044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9240" y="460548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djacen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1720" y="5092560"/>
            <a:ext cx="57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gles that share a common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9000" y="3817800"/>
            <a:ext cx="497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89000" y="2423880"/>
            <a:ext cx="4513320" cy="139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73160" y="1320840"/>
            <a:ext cx="2090880" cy="2496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96920" y="2428920"/>
            <a:ext cx="4513320" cy="1393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63840" y="45910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lementary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9680" y="509256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um of the angles equals 90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9000" y="3817800"/>
            <a:ext cx="497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9000" y="2423880"/>
            <a:ext cx="4513320" cy="139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73160" y="915480"/>
            <a:ext cx="0" cy="2901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96920" y="2428920"/>
            <a:ext cx="4513320" cy="1393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3040" y="32767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310824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7800" y="562752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35160" y="5635800"/>
                <a:ext cx="22464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43560" y="5613480"/>
                <a:ext cx="13921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3840" y="45910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pplementary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09680" y="5092560"/>
            <a:ext cx="64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um of the angles equals 180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00640" y="3817800"/>
            <a:ext cx="3727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367000" y="1365120"/>
            <a:ext cx="2028960" cy="2462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87440" y="3817800"/>
            <a:ext cx="3005280" cy="50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71320" y="1376280"/>
            <a:ext cx="2027160" cy="2449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32511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41600" y="327492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7800" y="561168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5160" y="5635800"/>
                <a:ext cx="22464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30960" y="5613480"/>
                <a:ext cx="1706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544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544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905120" y="5562720"/>
          <a:ext cx="198108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562720"/>
                    <a:ext cx="1981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9880" y="5410080"/>
          <a:ext cx="155268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410080"/>
                    <a:ext cx="15526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2962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962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62320" y="3352680"/>
          <a:ext cx="160020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352680"/>
                    <a:ext cx="16002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62520" y="3352680"/>
          <a:ext cx="143028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352680"/>
                    <a:ext cx="14302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486400" y="3352680"/>
          <a:ext cx="1265400" cy="50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352680"/>
                    <a:ext cx="1265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809880" y="3962520"/>
          <a:ext cx="164160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3962520"/>
                    <a:ext cx="16416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3962520"/>
          <a:ext cx="1265400" cy="50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962520"/>
                    <a:ext cx="1265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95680" y="4419720"/>
          <a:ext cx="927360" cy="50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419720"/>
                    <a:ext cx="927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91320" y="4419720"/>
          <a:ext cx="927000" cy="501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419720"/>
                    <a:ext cx="9270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657600" y="49528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5029200"/>
          <a:ext cx="70956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4280" y="5029200"/>
                    <a:ext cx="709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486400" y="5029200"/>
          <a:ext cx="1341360" cy="533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5029200"/>
                    <a:ext cx="1341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800600" y="5562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562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876920" y="5562720"/>
          <a:ext cx="44136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5562720"/>
                    <a:ext cx="441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172200" y="5562720"/>
          <a:ext cx="441360" cy="533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72200" y="5562720"/>
                    <a:ext cx="441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770360" y="6172200"/>
          <a:ext cx="681120" cy="685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0360" y="6172200"/>
                    <a:ext cx="681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62720" y="6089760"/>
          <a:ext cx="1600200" cy="768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62720" y="6089760"/>
                    <a:ext cx="16002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27200" y="1700280"/>
                <a:ext cx="263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2209680" y="1776240"/>
          <a:ext cx="747720" cy="597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209680" y="1776240"/>
                    <a:ext cx="747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057400" y="1243080"/>
          <a:ext cx="2136600" cy="596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057400" y="1243080"/>
                    <a:ext cx="2136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480" y="1295280"/>
          <a:ext cx="1040040" cy="596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9480" y="1295280"/>
                    <a:ext cx="1040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89720" y="1700280"/>
                <a:ext cx="2143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5867280" y="1828800"/>
          <a:ext cx="747720" cy="596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867280" y="1828800"/>
                    <a:ext cx="74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477120" y="1143000"/>
          <a:ext cx="745920" cy="5968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1143000"/>
                    <a:ext cx="745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9480" y="4419720"/>
          <a:ext cx="2828880" cy="645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09480" y="4419720"/>
                    <a:ext cx="28288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41" name="highchim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olicesir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have parallel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5909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57800" y="19051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2057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4290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004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lternate Interior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752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t by a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8380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ght angles ar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286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0559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22860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 and 1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057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66688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 and 2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2666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 and 3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28940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19112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5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25131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191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6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9720" y="34257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H="1" flipV="1" rot="5400000">
            <a:off x="6053760" y="326736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568920" y="2592360"/>
            <a:ext cx="128772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 flipH="1" flipV="1" rot="5400000">
            <a:off x="7032240" y="2433960"/>
            <a:ext cx="221040" cy="610200"/>
          </a:xfrm>
          <a:prstGeom prst="curvedConnector5">
            <a:avLst>
              <a:gd name="adj1" fmla="val -22185"/>
              <a:gd name="adj2" fmla="val 50000"/>
              <a:gd name="adj3" fmla="val -22185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 rot="10800000">
            <a:off x="5424480" y="29397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H="1" flipV="1" rot="5400000">
            <a:off x="5913000" y="2899800"/>
            <a:ext cx="254880" cy="734400"/>
          </a:xfrm>
          <a:prstGeom prst="curvedConnector5">
            <a:avLst>
              <a:gd name="adj1" fmla="val 132390"/>
              <a:gd name="adj2" fmla="val 49975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 rot="10800000">
            <a:off x="6389640" y="21189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/>
          <p:nvPr/>
        </p:nvCxnSpPr>
        <p:spPr>
          <a:xfrm flipH="1" flipV="1" rot="5400000">
            <a:off x="6878520" y="2079000"/>
            <a:ext cx="254520" cy="734400"/>
          </a:xfrm>
          <a:prstGeom prst="curvedConnector5">
            <a:avLst>
              <a:gd name="adj1" fmla="val 132436"/>
              <a:gd name="adj2" fmla="val 49975"/>
              <a:gd name="adj3" fmla="val 132436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145200" y="30639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flipV="1">
            <a:off x="6451200" y="317736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121520" y="222732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 flipH="1" flipV="1">
            <a:off x="7416360" y="234072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rot="10800000">
            <a:off x="5397120" y="34221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 flipH="1" rot="16200000">
            <a:off x="5569560" y="345996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 rot="10800000">
            <a:off x="6381360" y="259668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rot="16200000">
            <a:off x="6553800" y="263448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 rot="10800000">
            <a:off x="5423040" y="29379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/>
          <p:nvPr/>
        </p:nvCxnSpPr>
        <p:spPr>
          <a:xfrm flipH="1" flipV="1" rot="5400000">
            <a:off x="5911200" y="2898360"/>
            <a:ext cx="254880" cy="734040"/>
          </a:xfrm>
          <a:prstGeom prst="curvedConnector5">
            <a:avLst>
              <a:gd name="adj1" fmla="val 132390"/>
              <a:gd name="adj2" fmla="val 50000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566040" y="259092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/>
          <p:nvPr/>
        </p:nvCxnSpPr>
        <p:spPr>
          <a:xfrm flipH="1" flipV="1" rot="5400000">
            <a:off x="7030080" y="243216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167520" y="306216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H="1" flipV="1">
            <a:off x="6473160" y="3176280"/>
            <a:ext cx="192600" cy="249840"/>
          </a:xfrm>
          <a:prstGeom prst="curvedConnector5">
            <a:avLst>
              <a:gd name="adj1" fmla="val -28089"/>
              <a:gd name="adj2" fmla="val 51515"/>
              <a:gd name="adj3" fmla="val -2808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 rot="10800000">
            <a:off x="6391440" y="259344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6563520" y="2630880"/>
            <a:ext cx="317880" cy="199440"/>
          </a:xfrm>
          <a:prstGeom prst="curvedConnector5">
            <a:avLst>
              <a:gd name="adj1" fmla="val 86507"/>
              <a:gd name="adj2" fmla="val 20795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700"/>
                            </p:stCondLst>
                            <p:childTnLst>
                              <p:par>
                                <p:cTn id="4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2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7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775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85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925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74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15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225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7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75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have parallel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5909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57800" y="19051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4290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89548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en one angle measure is given, the rest are easy to f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t by a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380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ght angles ar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8280" y="25272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61080" y="3417840"/>
            <a:ext cx="7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77000" y="202248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15160" y="3581280"/>
            <a:ext cx="10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30720" y="283212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1400" y="1859040"/>
            <a:ext cx="10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45440" y="253512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 flipH="1" flipV="1" rot="5400000">
            <a:off x="7183080" y="2352960"/>
            <a:ext cx="221400" cy="610200"/>
          </a:xfrm>
          <a:prstGeom prst="curvedConnector5">
            <a:avLst>
              <a:gd name="adj1" fmla="val -22149"/>
              <a:gd name="adj2" fmla="val 5000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3" name=""/>
          <p:cNvCxnSpPr/>
          <p:nvPr/>
        </p:nvCxnSpPr>
        <p:spPr>
          <a:xfrm flipH="1" flipV="1" rot="5400000">
            <a:off x="6916680" y="2056680"/>
            <a:ext cx="254520" cy="734400"/>
          </a:xfrm>
          <a:prstGeom prst="curvedConnector5">
            <a:avLst>
              <a:gd name="adj1" fmla="val 132436"/>
              <a:gd name="adj2" fmla="val 49975"/>
              <a:gd name="adj3" fmla="val 132436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4" name=""/>
          <p:cNvCxnSpPr/>
          <p:nvPr/>
        </p:nvCxnSpPr>
        <p:spPr>
          <a:xfrm flipH="1" flipV="1" rot="5400000">
            <a:off x="5977800" y="2906280"/>
            <a:ext cx="254880" cy="734040"/>
          </a:xfrm>
          <a:prstGeom prst="curvedConnector5">
            <a:avLst>
              <a:gd name="adj1" fmla="val 132390"/>
              <a:gd name="adj2" fmla="val 50000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H="1" flipV="1">
            <a:off x="6451200" y="317736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H="1" flipV="1">
            <a:off x="7489440" y="2312640"/>
            <a:ext cx="192960" cy="249840"/>
          </a:xfrm>
          <a:prstGeom prst="curvedConnector5">
            <a:avLst>
              <a:gd name="adj1" fmla="val -28037"/>
              <a:gd name="adj2" fmla="val 5151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7" name=""/>
          <p:cNvCxnSpPr/>
          <p:nvPr/>
        </p:nvCxnSpPr>
        <p:spPr>
          <a:xfrm flipH="1" rot="16200000">
            <a:off x="6498360" y="2660400"/>
            <a:ext cx="317880" cy="199080"/>
          </a:xfrm>
          <a:prstGeom prst="curvedConnector5">
            <a:avLst>
              <a:gd name="adj1" fmla="val 86394"/>
              <a:gd name="adj2" fmla="val 20652"/>
              <a:gd name="adj3" fmla="val 8639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H="1" flipV="1" rot="5400000">
            <a:off x="6174360" y="321624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9" name=""/>
          <p:cNvCxnSpPr/>
          <p:nvPr/>
        </p:nvCxnSpPr>
        <p:spPr>
          <a:xfrm flipH="1" rot="16200000">
            <a:off x="5504400" y="351864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7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75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75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7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each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828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f m&lt;6=60,              find the m&lt;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35480" y="1981080"/>
                <a:ext cx="819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410080" y="3048120"/>
            <a:ext cx="3353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4120" y="23623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38862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352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3352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895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f m&lt;5=130,              find the m&lt;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971800" y="2743200"/>
                <a:ext cx="247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3886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f m&lt;3=75,              find the m&lt;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52680" y="4191120"/>
                <a:ext cx="774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638680" y="4495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lternate interior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4876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ertical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029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If m&lt;8=145,              find the m&lt;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52680" y="5257800"/>
                <a:ext cx="1027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638680" y="46483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657600" y="3352680"/>
                <a:ext cx="7732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010280" y="3352680"/>
                <a:ext cx="60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57800" y="3276720"/>
                <a:ext cx="7462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943600" y="3124080"/>
                <a:ext cx="533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00800" y="3962520"/>
                <a:ext cx="7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6222960" y="3435480"/>
            <a:ext cx="609480" cy="457200"/>
            <a:chOff x="6222960" y="3435480"/>
            <a:chExt cx="609480" cy="457200"/>
          </a:xfrm>
        </p:grpSpPr>
        <p:sp>
          <p:nvSpPr>
            <p:cNvPr id="249" name=""/>
            <p:cNvSpPr/>
            <p:nvPr/>
          </p:nvSpPr>
          <p:spPr>
            <a:xfrm flipH="1">
              <a:off x="6222960" y="3435480"/>
              <a:ext cx="533520" cy="4572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2960" y="3892680"/>
              <a:ext cx="609480" cy="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607440" y="3041640"/>
            <a:ext cx="609480" cy="457200"/>
            <a:chOff x="6607440" y="3041640"/>
            <a:chExt cx="609480" cy="457200"/>
          </a:xfrm>
        </p:grpSpPr>
        <p:sp>
          <p:nvSpPr>
            <p:cNvPr id="252" name=""/>
            <p:cNvSpPr/>
            <p:nvPr/>
          </p:nvSpPr>
          <p:spPr>
            <a:xfrm flipV="1">
              <a:off x="6683400" y="3041640"/>
              <a:ext cx="533520" cy="45720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607440" y="3041640"/>
              <a:ext cx="609480" cy="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0800000">
            <a:off x="5484960" y="341280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97840" y="268920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604200" y="3029040"/>
            <a:ext cx="609480" cy="457200"/>
            <a:chOff x="6604200" y="3029040"/>
            <a:chExt cx="609480" cy="457200"/>
          </a:xfrm>
        </p:grpSpPr>
        <p:sp>
          <p:nvSpPr>
            <p:cNvPr id="257" name=""/>
            <p:cNvSpPr/>
            <p:nvPr/>
          </p:nvSpPr>
          <p:spPr>
            <a:xfrm flipV="1">
              <a:off x="6680160" y="3029040"/>
              <a:ext cx="533520" cy="457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604200" y="302904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196040" y="26877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4240" y="388944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3160" y="304020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325"/>
                            </p:stCondLst>
                            <p:childTnLst>
                              <p:par>
                                <p:cTn id="7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825"/>
                            </p:stCondLst>
                            <p:childTnLst>
                              <p:par>
                                <p:cTn id="7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325"/>
                            </p:stCondLst>
                            <p:childTnLst>
                              <p:par>
                                <p:cTn id="7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825"/>
                            </p:stCondLst>
                            <p:childTnLst>
                              <p:par>
                                <p:cTn id="7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9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9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125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2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275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75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35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75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75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75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0:59:30Z</dcterms:created>
  <dc:creator>CCSS</dc:creator>
  <dc:description/>
  <dc:language>en-US</dc:language>
  <cp:lastModifiedBy>damon.skelton</cp:lastModifiedBy>
  <dcterms:modified xsi:type="dcterms:W3CDTF">2005-03-29T18:06:05Z</dcterms:modified>
  <cp:revision>31</cp:revision>
  <dc:subject/>
  <dc:title>No Slide Title</dc:title>
</cp:coreProperties>
</file>